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360" y="-7475400"/>
            <a:ext cx="360" cy="163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0" y="-7167600"/>
            <a:ext cx="1440" cy="157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C/C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ELF and 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great with bins like a router syst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681-260C-4BAD-A362-9C49E182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D25-CA59-4409-8807-BB5FDAE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5F2-1532-4649-B483-1942FB26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7A7-A234-4E6A-B2A8-D8871EC4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29D-3CAB-464E-B3CC-61EAA32A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ED8A-CEDF-4D53-9557-32883A8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AFA-C5CD-4344-BE58-0244760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99A7-62BE-49D1-9117-BEDA3FB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2EE-A01F-4707-A39B-A688047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EAC6-46DB-443B-99AB-3314EC5B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A0E0-69C9-4D49-8EA9-D36938A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463-245C-44DE-B1E3-5645CE0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2CF5-3874-49F8-9384-D7818A0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918-688B-45F0-8D97-60D3F8D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0D8-1998-4085-B233-523649E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FAE2-AC38-436E-A126-026556D5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F263-94EA-4809-9408-2673F58B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9B92-3F7A-4C19-B717-B6519B70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9412-0432-4DFA-86A8-078B64E3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FBF5-AA05-4381-9F9B-FC94667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010C-3660-4BF5-B72B-C1344261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3474-5E9A-4502-BD39-4B68C10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2B7-1B8A-45A9-AF64-1C1C261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FC78-C7F9-4702-97EA-90BC7B0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DF8E-ABAE-4E44-BF17-2FE2187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229A-616F-4FF5-AF9F-7E60DFDD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05EF-B90E-4CF1-A2F1-421C3CC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A65A-D45C-4642-8201-ADE8CB6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C9EA-A11B-40DE-9981-3401CA2B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5529-040A-4D3D-8D74-DF68271C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B7C9-A5EB-4296-B6CA-078092F2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CAD5-2058-461E-9C72-E5D9E54B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7BB9-7EC5-4E19-8207-B256C00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6AF-AEBA-4C53-9152-F1B39137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BEA8-E8B8-49BB-9C50-9DD8B54C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D22B-2BDE-4F51-BABA-DFF17248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0C786-D871-4AA8-82C8-C7CD7123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F379-EE62-470F-8C3E-115D166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15D7-BC1C-4B19-B269-FDB9B2E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9126-85AF-43C6-9188-91B9CCF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A296-CC53-4453-891E-68C6596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0D8D-1044-49BB-8B0B-B07917F4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56DD-E534-44A3-B0C4-816FA98D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E9B8-35CB-45D0-83BF-6807AE57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0CB-1B59-46F9-AFA3-4FFC7245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71E3-A2B9-433E-A897-BC033B2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F6A7-A889-41B6-A762-685AADB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6A09-A616-46F7-9C6A-0018E57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CCFD-0488-46E1-AABF-A297CDA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C489-14DE-4704-9110-A9AEC39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1E30-3138-4315-9EDB-67A9073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244D-6E3F-4970-A662-88B054F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9926-AE70-49D0-AA73-66A84A8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609D-E2A1-42B9-A0F0-0A3143F6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6305-F728-45F5-AACA-28323418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9DF-1DEE-4F19-9A96-ECEBBC00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133F-C0DB-4716-B7B0-C0551DA0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142F-4069-4942-98A0-F64B5974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3A87-E226-47FC-B629-3DA3E60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A786-DB20-461F-BF8D-FE98D00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F3CA-431C-451C-A890-9B7C8F41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4548-14EA-4495-8F07-65DEB88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AB9B-9713-49D5-9D51-DC17B8B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BD5F-B64C-4541-AC78-76A6FE8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0A23D-3F25-466B-9D47-08FFC1B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C6FC-9986-4869-9F33-EA84529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CD3-32DD-4B9D-9704-EBFB07A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9872-29C8-4CC3-9C95-30EFD042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EB18-38F5-4951-9F08-CB0F8589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200E-4E4E-4AAA-8042-A7CE3922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82F-0799-470D-B931-512C5B3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337-D85A-4534-9C78-5DD5C89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ED069-8B57-4AB2-A9CD-B7EDDA04BBFC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721F8-B49D-4C1A-B044-96CBF74900B7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EA7AC-008C-40E1-A75D-7C6D208AC479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4B0D0-0DA0-45AA-BD1E-8914D473C9F3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8B1B4-5ABF-41AA-BDE3-7DD40F0BD35A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2A9DD-D850-4B0F-A543-609A59C5046B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ecurityfocus.com/infocus/1872" TargetMode="External"/><Relationship Id="rId2" Type="http://schemas.openxmlformats.org/officeDocument/2006/relationships/hyperlink" Target="http://www.securityfocus.com/infocus/187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04436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ntroduction to Reverse Engineering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red DeMo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cial Security, In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ck Hat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tic Analysis (Dead Listing)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itional disassemb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32Da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bjdump/dumpb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Pro (interac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de does not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assembler parses the file format and related code 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ood disassemblers do deep recursive analysis to ensure proper instruction dis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the user the ability to look at what code will do without actually running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for debug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viewing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Inspecting the contents of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960" y="88920"/>
            <a:ext cx="8228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o what do we need to get started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complex, because computers are 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ly we’re working without source code or project docu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 Software” familiarity is a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ng system specifics (Win and *NI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ypical APIs like strcpy, printf, gets, memse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ilers, linkers/loaders, debug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mbly language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etency with Reversing/Debugg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..And a solid RE Process or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verse Engineering Methodology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Levels at which RE can be d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level or system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that help determine the general structure of th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of the information comes from the OS and, hence, OS monitoring util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Sys-internals here like, regmon, filemon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trace and in particular WIRESH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e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provide detailed information on a selected code seg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s extracting design concepts and algorithms from binary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.E … we’re looking at .asm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Quick System and Compiler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erating Syst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S is a program that manages the computer’s hardware and software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ood reverser must understand what the OS does and how it do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focus on the Microsoft Windows and *NIX 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mpilers and Interpre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ilers translate high-level programming languages (e.g., C, C++) into machine code that can be executed by a computer’s C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compilers (e.g., for Java and .NET) generate bytecode instead of object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tecode is interpreted first by a program not the CP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greatest obstacle in deciphering compiler generated code is the optimizations applied by most modern compil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timized code is often unintuitive and difficult to re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loop unrolling, function in-lining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ta Type Inform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d languages like C require that variables be ty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that information, before even trying to figure code mean is often the key to RE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this information can be derived from variables passed to library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 recovery is a tad more difficult be very impo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are file formats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derstanding the composition of a file is anther key to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les generally adhere to a specific form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OS executables (ELF/PE) this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ical executable files are created from source code and libraries by a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iles can be created by anything from a text editor to an mp3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Typical Content in an Executable Fi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chin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structions the program will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de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tic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ade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a Sectio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the loader to find require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oader is an OS program that solidifies the runtime environment of an application when it starts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Lin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securityfocus.com/infocus/187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securityfocus.com/infocus/187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ecutables can have user defined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F – Executable and Linker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iginally published by UNIX system laboratories as a dynamic, linkable format to be used in various UNIX 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uses 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modern BSD based unix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s do a quick dissection of the major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header contains various information the operating system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ident      – Contains various identification fields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dianess, ELF version, Operat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type       – Identifies the object file type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ocatable, executable, or cor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machine – Contains the processor type including Inte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0386, HPPA, PowerP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version   – Contains the file version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ntry      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s the entry point for th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phoff      – Contains the program files header offset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shoff      – Contains the section header off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flags      – Contains the processor specific fla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hsize    – Contains the ELF header size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ection of an ELF executable contain various information needed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b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uninitialized data that contributes to the program's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image. By definition, the system initializes th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with zeros when the program begins to ru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mmen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Version control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ctor functio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ebu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- Information for symbolic debugging. The contents ar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specif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tructor fun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ynamic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Dynamic linking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tr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trings needed for dynamic linking, most commonly the strings that represent the names associated with symbol table entr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ym --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the dynamic linking symbol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fini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executable instructions that contribute to the process termination code. When a program exits normally the system arranges to execute the code in this sec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go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the global offset table.  See .pl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hash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a symbol hash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i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executable instructions that contribute to the process initialization code. When a program starts to run the system arranges to execute the code in this section before calling the main program entry poin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terp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the pathname of a program interpreter. If the file has a loadable segment that includes the section, the section's attributes will include the SHF_ALLOC bit. Otherwise, that bit will be off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lin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-  line number information for symbolic debugging, which describes the correspondence between the program source and the machine code. The contents are unspecifie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06668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t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nformation in the “Note Section” form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cribed bel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l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procedure linkage table.  See .g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elNAM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location information.  By convention, “NAME” is supplied by the section to which the relocations apply. Thus a relocation section for .text normally would have the nam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.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1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h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ection na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trings, most commonly the strings th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the names associated with symbol table e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ym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 symbol table. If the file has a loadable segment that includes the symbol table, the section's attributes will include the SHF_ALLOC bit. Otherwise the bit will be of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“text'' or executable instructions, of a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 – Portabl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icrosoft migrated to the PE format with the introduction of the Windows NT 3.1 operating system.  It is based on a modified form of the UNIX COFF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uses P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NT, Window 2000, Windows XP, Windows 2003, Windows CE, Windows Vi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section of major pa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ways starts with “MZ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S St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DOS stub contains a message that the executable will not run in DOS mo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ional Header (Not o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Relative virtual address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tional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optional header in a PE executable contains information regarding the executable contents needed for the OS load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Size of the code (text) section, or the sum of all cod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sections if there are multiple sec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AddressOfEntryPoi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ddress of the entry function to start executi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 fr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RVA of the start of the code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Dat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RVA of the start of the data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ection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lignment of sections when loaded into mem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File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Alignment of section on dis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Imag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ize, in bytes, of image, including all headers; must b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multiple of Section Alignmen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Header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Combined size of MS-DOS stub, PE Header, and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ction headers rounded up to a multiple of FileAlignmen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NumberOfRvaAndSize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Number of data-dictionary entries in the remainder of the optional Header. Each describes a location and siz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ections in a PE file contain pieces of the executable needed to run including RVA’s and off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text   – Contains all executabl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idata  – Imported data such as .dll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edata – Any export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data   – Initialized data like global variables an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 liter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bss    – Un-initializ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src   – All module resour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eloc  – Relocation data for the OS lo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engineering (REing) isn’t n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For century’s countries at war would capture equipment and reverse engineer the design to duplicate the weap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recent years, China seized a downed US AWAX plan and reportedly reversed cryptograph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alk focuses on software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also called 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 Code 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ata 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than executable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usually contain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s structure but not always defined s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eed to reverse fil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rietary formats are not always publ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ing allows compatibility (i.e. Microsoft doc in Open Offic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… though MS just released offic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he only way to get what you pay for is to tak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ssembly Language and Archi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.asm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est level of programming (besides microcode/machine code)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pecific to a particular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 processor register access utilizing architecture defined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of most compilers is .a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6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fore it's compiled into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ow is .asm used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ly using an 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SM or M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ll are .asm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by a high level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oth C/C++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does it looks lik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the architecture instruction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v eax, 0x1 (Intel or ATT sty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-RI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py %r14,%r2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DR r0,[r8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e the mneumonics for the opcodes handled by the 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mal set of “commands” that achieve a programming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, opcodes == by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newmoncs is “more” rea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 Archit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SC - Reduced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xed length 32 bit (4 byte)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2 general purpose regist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BM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P (PA-RIS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ple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ISC - Complex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byte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ple synonymous opc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6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el (IA-32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C [PDP-11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torola (m68K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s and the Stac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 are used to store temporary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in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u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tack is used to manage data and function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ck Layou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3712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ck is dynamic but builds as it g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resses start at a higher address and builds to lower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stack is generally allocated in 4 byte chu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63244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REing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the process of extracting knowledge or design information from anything man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 relates to security the goal may also be to uncover unknown software bu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 siz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ister sizes depend on the supported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6 registers 32 bits (4 bytes)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64bit finally in wide use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general purpose registers 64 bits [8 bytes]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3 most important IA32 Regist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BP – Stack frame bas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start of the functions stack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P – Stack sourc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current (top) location on the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next executable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4819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ll 16 IA32 Regis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eral Purpose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in general computation and control f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AX – Accumulato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B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X – Counte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I – Source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I – Destination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gment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to segment memory and compute addr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S – Code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S  - Stack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S  -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  - Extra (More data)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S  - Third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S – Fourth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FL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F – Carry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F – Signed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ZF – Zero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verview of IA-32 Instruction Set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  – Moves source to dest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    – Loads effective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mp  –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ne – Jump if not eq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g – Jump if 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ll   – Unconditional function c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    – Returns from a function to the ca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  – Add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  – subtract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or   – XOR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mp – Compares two registers via sub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 –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wo operands togeth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First glimpse at Code - Looking at Calling Conven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unction Calling Conven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ing conventions define how the callers data is arranged on the stack, and who takes care of the stacks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de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common, especially on UN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er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d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on in Wind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ast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st two parameters are passed over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need to unwind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DEC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1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tio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sp, 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D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2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2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AST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fastcall int MyFunc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3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many compilers create a stack frame even if it isn't 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a is in eax, b is in ed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@MyFunc3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/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y do we reverse engine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osed 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 ver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ypto algorithm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prietary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MB on UNI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ord compatible ed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rus (malware)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gital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ny Back d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a general purpose win32 user land debugger.  The great thing about it is the intuitive UI and powerful disassemb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free (shareware), however it is not open source and the source code is not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has defined a plugin architecture allowing extensibility via powerful plu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ndow layouts are the various parts of the UI that contain pertin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Code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executable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egister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watch the contents of each register during exec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emory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view the contents of various 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ck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stack, including memory addresses an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ar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entered in the code window with the ; or : k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sting N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ames window displays all functions or imported functions used in the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sting them is easy via the shortcut Ctrl +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memory can be useful when looking for strings or other importa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the memory map window can be achieved via Alt +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reak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reakpoints allow the debugger to stop at a specified address or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two types of breakpoints in gen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oft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operating syste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navigating to the specified address and hitting F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ard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process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finding a place in memory you want to break on access and right clicking selecting the proper op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lly also provides a way to view and turn on/off breakpoints via the breakpoints window with Alt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trolling Exec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arting the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nce the target program is either loaded or attached in Olly you can start execution.  This will actually set up an initial breakpoint at the application entry poi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several ways you can proceed from the entry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gle ste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one instruction at a time (F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teps into every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p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ver functions (F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, Execute until retu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until the ret instruction is encountered which can be achieved by hitting Ctrl + F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tching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register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 highlighting indicates a register has 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stack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 can be address or relative address from eb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displayed with the shortcut Alt +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 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llyDbg provides a downloadable PDK for plugi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ral plugins exist that provide extra 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ap 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point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yth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much more, so check it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mmDbg Demo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gram displays a popup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al is to make the proper box show and ex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Patching is fun...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us to modify the executable assembly code and save it to a new file with the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ld also just be done in a hexed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xeditors are fun to play 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NU Debugger (gdb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*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so easy to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ke VI, has a lot of text commands to memo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do well with stripped bin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werful once you get the hang of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in all kinds of 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gain, Why should you ca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sis of compu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e engineering teaches the inner workings of any proces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rning how the processor handles data helps in understanding many other aspects of computer 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cool kids are doing 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really, still a highly specialized, high paying job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ing for government contracts is still goo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A Pr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active Disassembler Professional (IDA pro) is a powerful dis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s tons of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as since been broadened to include a built in debug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signed for reverse engineers with quickness and robustness in m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makes the learning curve steep for s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plug-in architecture and built in scripting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stomizing window lay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aved session will store any customized layo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efault layout can also be sa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ized layouts are provided to help the user with workflow and can consist of any combination or number of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Navig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219320"/>
            <a:ext cx="8610480" cy="495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rtc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st actions have equivalent shortcuts associated with th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most 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nter] – Jumps into the function under the cur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sc] – Returns to the previous cursor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m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A allows the user to jump to various parts of a binary file eas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jum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ntry poi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Jumps to the entry point of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nam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Allows the user to jump to a specific function or string in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addres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Allows the user to jump to a specific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can be used to tag locations in the binary for future reference (like a bookmar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are set using Alt + M and na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umping to a marker is easily achieved with Ctrl +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di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allow you to organize and document important parts of the b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can be entered using the shortcut keys ‘;’ or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nction names can b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renam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something more descrip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imes symbols are not available for the binary and naming each functions allows you to understand and track your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s can be renamed using ‘n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Most Popular View Window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s the disassembled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 the hex view of the current cursor pos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ames windows displays textual names and addresses in the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trings window contains any ASCII strings present in the executable.  Check these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orts window contains the imported functions from dll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unctions window allows you to view all functions and their addr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raph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A Pro has a powerful graphing engine that allows a user to visualize call graphs and xre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w version has “overview graph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play the current functions machine code and any bran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graph will display the call flow of all the functions in the executable (Can be larg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ref graphs display the to and from xrefs with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lir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st Library Identification and Recognition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irt is a means for IDA Pro to identify imported functions and compilers by matching against a database of known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is greatly speeds up analysis by automatically naming discovered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ly works with C/C++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are works to bring in static lib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C Scrip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IDC scripting engine allows the user to achieve small tasks through the IDC scripting eng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C resembles C and has many helpful functions built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ch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d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DK/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SDK allows the user to develop plugins for use in IDA P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lug-ins are written in C/C++ and compiled against the version specific SDK libraries and hea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sing the plugins you can w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or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put processing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lugin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ome good plug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x86emu – Allows IDA to do runtime e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DAPython – Access the IDA API in Pyth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es Stalker – Allows visualization and run time trac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dapalace.c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ex-rays.com/community/plugi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s it legal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ocial, moral, and economic impact does RE have on socie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s on what RE is used for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a RE scenario is legal or not depends on many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ally, we’re not getting into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DA DEM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a few simpl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nd Compile a program in Win/U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 the sections wi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Clr>
                <a:srgbClr val="f07f0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dump/dumpbin or in 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ompiling is different than disassembling in that it tries to reconstruct machine code to readable (and ultimately compilable) source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tive compiled code is difficult to reconstruct because of the compilers behaviour when optimizing the produced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601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ough new hex-rays plug-in is fairly good I’m t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rtual machine code is much easier to achieve readable code because of its nature.  It must be compiled into a intermediate language with all necessary information the target platform may need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.Ne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is compiled down into MSIL (Microsoft intermediate language) and is a good example of decomp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must provide the operating system with a wealth of information including symbol names, and data 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#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D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tesoft Salama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lector for 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D (Disappeared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o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a vast and complex wor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th a lot of practice though it becomes much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good reverser knows their tools inside an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flow and organization are the keys to rever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Two Types of Revers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Dynam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Stat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Bot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al Time or dynamic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buggers that disasse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/Immunity Debug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nDb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d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de actually r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application executes all instructions as if it was ran norm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s interrupts to control execu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out the current instruction with an interrupt instruction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it back when the execution is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2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xcc == software break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ed</cp:lastModifiedBy>
  <dcterms:modified xsi:type="dcterms:W3CDTF">2008-08-04T05:06:41Z</dcterms:modified>
  <cp:revision>97</cp:revision>
  <dc:subject/>
  <dc:title>Intro to Reverse Engineering</dc:title>
</cp:coreProperties>
</file>