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87600" y="1143000"/>
            <a:ext cx="6743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87600" y="3491280"/>
            <a:ext cx="6743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87600" y="114300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43240" y="114300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87600" y="349128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3240" y="349128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87600" y="1143000"/>
            <a:ext cx="217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67840" y="1143000"/>
            <a:ext cx="217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47720" y="1143000"/>
            <a:ext cx="217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87600" y="3491280"/>
            <a:ext cx="217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67840" y="3491280"/>
            <a:ext cx="217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47720" y="3491280"/>
            <a:ext cx="217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87600" y="1143000"/>
            <a:ext cx="6743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87600" y="1143000"/>
            <a:ext cx="6743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87600" y="1143000"/>
            <a:ext cx="329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3240" y="1143000"/>
            <a:ext cx="329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92200" y="380520"/>
            <a:ext cx="7315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87600" y="114300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3240" y="1143000"/>
            <a:ext cx="329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87600" y="349128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87600" y="1143000"/>
            <a:ext cx="6743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87600" y="1143000"/>
            <a:ext cx="329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3240" y="114300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3240" y="349128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87600" y="114300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3240" y="114300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87600" y="3491280"/>
            <a:ext cx="6743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87600" y="1143000"/>
            <a:ext cx="6743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87600" y="3491280"/>
            <a:ext cx="6743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87600" y="114300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3240" y="114300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87600" y="349128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3240" y="349128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87600" y="1143000"/>
            <a:ext cx="217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67840" y="1143000"/>
            <a:ext cx="217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47720" y="1143000"/>
            <a:ext cx="217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87600" y="3491280"/>
            <a:ext cx="217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67840" y="3491280"/>
            <a:ext cx="217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47720" y="3491280"/>
            <a:ext cx="217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87600" y="1143000"/>
            <a:ext cx="6743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87600" y="1143000"/>
            <a:ext cx="329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143000"/>
            <a:ext cx="329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92200" y="380520"/>
            <a:ext cx="7315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87600" y="114300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3240" y="1143000"/>
            <a:ext cx="329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87600" y="349128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87600" y="1143000"/>
            <a:ext cx="329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3240" y="114300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240" y="349128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87600" y="114300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3240" y="114300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87600" y="3491280"/>
            <a:ext cx="6743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1" descr="top2"/>
          <p:cNvPicPr/>
          <p:nvPr/>
        </p:nvPicPr>
        <p:blipFill>
          <a:blip r:embed="rId2"/>
          <a:srcRect l="0" t="0" r="85797" b="0"/>
          <a:stretch/>
        </p:blipFill>
        <p:spPr>
          <a:xfrm>
            <a:off x="0" y="0"/>
            <a:ext cx="13017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587600" y="1143000"/>
            <a:ext cx="6743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34"/>
          <p:cNvSpPr/>
          <p:nvPr/>
        </p:nvSpPr>
        <p:spPr>
          <a:xfrm>
            <a:off x="1339920" y="-609480"/>
            <a:ext cx="0" cy="822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35"/>
          <p:cNvSpPr/>
          <p:nvPr/>
        </p:nvSpPr>
        <p:spPr>
          <a:xfrm>
            <a:off x="9074160" y="-609480"/>
            <a:ext cx="0" cy="822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6"/>
          <p:cNvSpPr/>
          <p:nvPr/>
        </p:nvSpPr>
        <p:spPr>
          <a:xfrm>
            <a:off x="1339920" y="838080"/>
            <a:ext cx="773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22" descr="cruciallogosm"/>
          <p:cNvPicPr/>
          <p:nvPr/>
        </p:nvPicPr>
        <p:blipFill>
          <a:blip r:embed="rId3"/>
          <a:stretch/>
        </p:blipFill>
        <p:spPr>
          <a:xfrm>
            <a:off x="139680" y="3086280"/>
            <a:ext cx="1060560" cy="515880"/>
          </a:xfrm>
          <a:prstGeom prst="rect">
            <a:avLst/>
          </a:prstGeom>
          <a:ln w="0">
            <a:noFill/>
          </a:ln>
        </p:spPr>
      </p:pic>
      <p:sp>
        <p:nvSpPr>
          <p:cNvPr id="7" name="Text Box 28"/>
          <p:cNvSpPr/>
          <p:nvPr/>
        </p:nvSpPr>
        <p:spPr>
          <a:xfrm>
            <a:off x="1625760" y="6477120"/>
            <a:ext cx="556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DeMot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29"/>
          <p:cNvSpPr/>
          <p:nvPr/>
        </p:nvSpPr>
        <p:spPr>
          <a:xfrm>
            <a:off x="8292960" y="6477120"/>
            <a:ext cx="52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AD1E-469A-40F5-90CA-D83B05D1B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39"/>
          <p:cNvSpPr/>
          <p:nvPr/>
        </p:nvSpPr>
        <p:spPr>
          <a:xfrm>
            <a:off x="1346040" y="6400800"/>
            <a:ext cx="772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biglogo"/>
          <p:cNvPicPr/>
          <p:nvPr/>
        </p:nvPicPr>
        <p:blipFill>
          <a:blip r:embed="rId2"/>
          <a:stretch/>
        </p:blipFill>
        <p:spPr>
          <a:xfrm>
            <a:off x="3632040" y="1857240"/>
            <a:ext cx="1879920" cy="997200"/>
          </a:xfrm>
          <a:prstGeom prst="rect">
            <a:avLst/>
          </a:prstGeom>
          <a:ln w="0">
            <a:noFill/>
          </a:ln>
        </p:spPr>
      </p:pic>
      <p:sp>
        <p:nvSpPr>
          <p:cNvPr id="48" name="TextBox 13"/>
          <p:cNvSpPr/>
          <p:nvPr/>
        </p:nvSpPr>
        <p:spPr>
          <a:xfrm>
            <a:off x="1523880" y="3352680"/>
            <a:ext cx="601992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3b3b3"/>
                </a:solidFill>
                <a:latin typeface="Arial"/>
              </a:rPr>
              <a:t>AppSec A-Z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3b3b3"/>
                </a:solidFill>
                <a:latin typeface="Arial"/>
              </a:rPr>
              <a:t>Reverse Engineering, Source Code Auditing, Fuzzing, and Explo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3b3b3"/>
                </a:solidFill>
                <a:latin typeface="Arial"/>
              </a:rPr>
              <a:t>By: Jared DeMo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1587600" y="1143000"/>
            <a:ext cx="6743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Code_Auditing.pptx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roduction and Motiv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587600" y="1143000"/>
            <a:ext cx="6743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’ve been in the industry a while and have worked at such places as DoD, Booz Allen, ASI, FSU, et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 enjoy this work and do it for a living, so what better way to learn than to tea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uzzing book with Ari Takanen and Charlie Miller now out!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75000"/>
              <a:buFont typeface="Verdana"/>
              <a:buChar char="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ook signing right after this talk at 12:3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75000"/>
              <a:buFont typeface="Verdana"/>
              <a:buChar char="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pefully someone will buy a copy and humor Charlie and I.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talk was meant to be a long, then short, then long again… funn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l my slides on the C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re will be a test at the end so pay atten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0710081944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6477120" y="4495680"/>
            <a:ext cx="2743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Source Code Audit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5 m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loitation 1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5 m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loitation 2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5 m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loitation 3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0 m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loitation 4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0 m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Content Placeholder 2"/>
          <p:cNvSpPr/>
          <p:nvPr/>
        </p:nvSpPr>
        <p:spPr>
          <a:xfrm>
            <a:off x="228600" y="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erse Engineering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5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zzing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0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5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et out your test booklets!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587600" y="1143000"/>
            <a:ext cx="6743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me 8 of the 16 IA-32 regist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me the 3 standard calling conven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does .Net assemble int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does the IA-32 processor handle signednes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does the IDC scripting language resembl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re the two main types of fuzzer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me 4 C functions you need to be careful with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the most common threat to your computer today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with that, what is the common attack that uses javascript to carry out this attack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87600" y="1143000"/>
            <a:ext cx="6743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 love secur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reat field to be 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halleng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ways chang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re’s always a need for more experts to shine a light on weak areas via research and repor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ank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Go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Famil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Frie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Crucial Secur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400"/>
              </a:spcBef>
              <a:buClr>
                <a:srgbClr val="000000"/>
              </a:buClr>
              <a:buSzPct val="75000"/>
              <a:buFont typeface="Verdana"/>
              <a:buChar char="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d very intelligent cowork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FS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BlackHa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sh 1@stPlace luck this year at CT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sh Charlie and Jake luck during fuzzing challenge tod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jared</dc:creator>
  <dc:description/>
  <dc:language>en-US</dc:language>
  <cp:lastModifiedBy>jared</cp:lastModifiedBy>
  <dcterms:modified xsi:type="dcterms:W3CDTF">2008-08-02T06:30:32Z</dcterms:modified>
  <cp:revision>227</cp:revision>
  <dc:subject/>
  <dc:title>Slide 1</dc:title>
</cp:coreProperties>
</file>